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EB6-E15E-49EF-A393-29059E78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E98-7DA8-415A-B7B1-3F1A7BF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38A-CE2F-45BA-B4A0-E346B683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9BB-D2B3-4E52-950A-792053B5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73F-78F3-4194-ABB8-A4DA7505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C81-C315-4442-99C2-CB284E4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CCE-BAA8-4114-A107-34C56FC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AD4-05AF-4F6E-A97C-8395BAD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18C-BD00-4427-BC7F-552DC757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A77-23D7-4CA3-8A3F-4E11883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600-A0FB-46F6-899D-F24C97C6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1FC-DD15-4D8C-8B9D-FE35F77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A1C-2796-4ADD-B746-94712C73CA7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chedule for negotiation set to 23rd of M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HW-pool will be established to transfer equipment in a sufficient way and reduce cost of wasting and new invest; Team assistance are working on this with the basis of the asset li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ist of named engineers that is part of the contract was reworked aligned with Motorola in accordance to the need of BenQ 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s are accounted as inventory of BenQ Denmark APS, transfer of equipment is proposed on basis of the book value and has to be handled as inv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W-contracts intended to be transferred are CST Microwave Studio, PTC Intercomm Browser, Orcad Unison EE/PCB, Synopsys, R&amp;S maintenance contracts. Decision of Motorola depends on cost situa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verbal done. Contract is under preparation. Moving could be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nearly finished; moving is planed for 25th to 28th of M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is ongoing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on several projects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moval of BenQ asset out of the building transferred to Motorola started. Lars Bonde is responsible as project manger for this issu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21T10:21:53Z</dcterms:modified>
  <cp:revision>54</cp:revision>
  <dc:subject/>
  <dc:title>PowerPoint 簡報</dc:title>
</cp:coreProperties>
</file>